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7E0-D1AF-4A34-BD1F-AA72BA87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DCE-F4CB-433F-81E5-5DAB31DD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431-F857-4933-BAFC-0F9707DE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998-EBC7-473A-B86B-B6957DF6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7899-0D26-46E2-98B8-70624C91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521B-948A-4C30-826A-4EA1C180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9282-5A87-4E7E-9C5E-845C678F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C77A-DF26-4BA7-95F1-4242A9D2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4138-BA01-4033-A271-CCB26A4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3A6E-6291-4C9F-9DC2-C7A8E32B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609A-1AE6-4E66-A02F-5B7D9F5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73B-C991-4560-9A18-9CE18B97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AF2A-8FB3-44B5-8296-6E479D22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C47B-AD18-44F3-9845-CB30864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45B1-D3AF-470E-94E9-C79863EF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6C51-B7AB-4B28-B01C-83AD9989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66AB-9B14-4A91-B010-AB5E372D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E54-1EB3-47D8-AB69-6407DE58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EAF-E1EB-477A-A355-0B3CD5A5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D57-43AC-4AC3-812B-5B972BD9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B21-4546-41DE-AD1B-DF634745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E63-7AEB-4579-BD57-9395855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AC9-D7FA-4264-AA0D-EC6431AA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4E3-E905-4549-9B5A-469A954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ACEA-2EE2-4D28-BCB7-7C0CA71A96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3226-DE6D-49EC-A0EE-BFE418DE0C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itle of Nove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does this story take pla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are the main characte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 their physical and personal characteristics. At least three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y Summar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efly describe the main events or problems in thi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lf to Self Conne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an connect to ____________ because ____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helps me better understand                          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xt to Text Conne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_______ happens in this story it reminds of when ______ happened in another story called 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helps me understand 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I read this story I wond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le I was reading this story I wond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 reading this story I wo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 to the Auth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 to Word and write a letter to the auth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m at least one question about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m a question about themsel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them what you liked or disliked about their boo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them anything else you have in mi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1:27:19Z</dcterms:created>
  <dc:creator>Denise</dc:creator>
  <dc:description/>
  <dc:language>en-US</dc:language>
  <cp:lastModifiedBy>Denise</cp:lastModifiedBy>
  <dcterms:modified xsi:type="dcterms:W3CDTF">2007-03-26T12:00:05Z</dcterms:modified>
  <cp:revision>2</cp:revision>
  <dc:subject/>
  <dc:title>Title of Novel</dc:title>
</cp:coreProperties>
</file>